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4269-3C8E-430A-BAC4-2411CC38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D949-9300-420A-9738-FA6EAEB0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174-D69F-44AB-BF33-4BA14F19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28C-C499-4FEC-8878-EA3F026A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276-D9A9-439F-BB77-29098203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0072-42D2-4308-B520-F770355D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B8E-FDBB-4BE8-8C87-0E385D4A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34F3-46D6-4B11-8467-CE2622CD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82D1-9091-488F-ACE6-C6DC574F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3EA9-4CEA-4283-A475-833E844D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8EE-9342-44AB-84B0-6D9D8C2F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6B56-7CE4-4B76-B280-5FBFCEE7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BC44-909A-4FEB-BB2A-7D9F95D88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824040"/>
            <a:ext cx="82090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824040"/>
            <a:ext cx="82090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5:23:16Z</dcterms:created>
  <dc:creator>Patrick J. Mooney</dc:creator>
  <dc:description/>
  <dc:language>en-US</dc:language>
  <cp:lastModifiedBy>Patrick J. Mooney</cp:lastModifiedBy>
  <dcterms:modified xsi:type="dcterms:W3CDTF">2011-02-01T15:24:54Z</dcterms:modified>
  <cp:revision>1</cp:revision>
  <dc:subject/>
  <dc:title>Slide 1</dc:title>
</cp:coreProperties>
</file>